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595-63A1-4038-9E78-3B71CBFB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FEE-6F04-4BCC-BDFE-FFCBCC9E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2B1-7C67-4F55-9BBC-9B5A25E0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799-7362-43B7-85DF-FA1D7AB9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FF5-81CA-465F-88F9-25341060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E7A-E177-4992-8C7E-1A9B1032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622-400B-4162-80AB-FC511B24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C12-2F50-4CA0-A4C8-5557314E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491-9F10-48DD-9860-9BAB1B32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59F-D9D5-4DB2-9135-1119EA22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AC2-5660-4910-B0C5-AF8EEF09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6B3-1DB5-4C76-BE96-FD78AC44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4943-F87D-4A1A-834E-2E05A127A43F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iver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ong Pro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ng prof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river, it is steeper near the source, where there is a lot more material for the river to cut through to reach its base leve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you go further down the river it has cut further down towards base level and is beginning to cut laterally (sideways) as wel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lope angle of the river decreas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the time you reach the lower stages of the river it almost flows over a flat surface, as i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ander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s way towards the s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 Typical Pro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eduonlinelive.co.uk/Images/Interlocking-Spurs.png"/>
          <p:cNvPicPr/>
          <p:nvPr/>
        </p:nvPicPr>
        <p:blipFill>
          <a:blip r:embed="rId1"/>
          <a:stretch/>
        </p:blipFill>
        <p:spPr>
          <a:xfrm>
            <a:off x="1908000" y="1258920"/>
            <a:ext cx="54007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ross Pro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oss profi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river channel changes throughout the course of the riv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upper section the channel tends to be quite narrow, and comparatively dee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ttom and sides are littered with many boulders and rocks, causing a great deal of friction for the water flowing past th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ows the water down and means that this is where the river is flowing the slow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ross Pro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 the mid course of the river has a wider channel, which is deeper than the one in the upper reaches, and the water flows faster, as it has less material to slow it down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river may begin to meander in this section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lower course sees the river flowing at its fastest until it slows down when it meets the sea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channel is very wide, deep in places where the water is flowing quickest, and smooth side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iver Profiles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237200"/>
        </p:xfrm>
        <a:graphic>
          <a:graphicData uri="http://schemas.openxmlformats.org/drawingml/2006/table">
            <a:tbl>
              <a:tblPr/>
              <a:tblGrid>
                <a:gridCol w="1378080"/>
                <a:gridCol w="1873080"/>
                <a:gridCol w="2519280"/>
                <a:gridCol w="2459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pper 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ddle 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er 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 Pro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ply sloping towards the lower sections of the riv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llow slopes towards the mouth of the riv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most at sea level, very gently sloping towards its mout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 Pro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p sided v-shaped valley. Thin river channel, deep in pla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-shaped valley remains with a wider valley floor and the river begins to meander across it. The river channel begins to widen and become deep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de, shallow valley, with large flood plains and meanders. The river channel is wide, deep and smooth sid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8:29:06Z</dcterms:created>
  <dc:creator>Dell_02</dc:creator>
  <dc:description/>
  <dc:language>en-US</dc:language>
  <cp:lastModifiedBy>Dell_02</cp:lastModifiedBy>
  <dcterms:modified xsi:type="dcterms:W3CDTF">2011-01-26T18:40:12Z</dcterms:modified>
  <cp:revision>2</cp:revision>
  <dc:subject/>
  <dc:title>River Profiles</dc:title>
</cp:coreProperties>
</file>